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C3A-2183-4F34-9E05-2A99DA9A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44B-79EB-4658-B30D-33E727C9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7D5-DFE4-4B51-ACA1-7304705A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07D-867E-4D43-ACC1-0596AF2F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0FD9-B031-46EC-BBAB-9EFD11B3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10AA-2811-491B-9DCC-EA415A95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52E0-9F59-49F5-A44B-FFC15E0F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4305-7826-46BA-A92A-73305FBA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15A2-97FE-41E1-BA77-DB917F95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A57A-D299-4F32-ACF0-04F00FC0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0A38-A06F-40BB-BAD0-C2FB0D66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98D-24F8-4E06-A7C8-E2E220F8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B754-7D56-442F-91B8-DF1A94EE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6332-2085-4122-826D-D8ADCE80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0B10-2B7E-4C93-9028-3A87775B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44EC-3522-4ADC-BFC7-46413908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DDE6-4AFD-411D-B8EA-88BBF9E4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88D-D4D6-4CB2-AAC6-8F9B06FD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41E-E15B-41E6-822B-8AAEC060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F93-C91F-4F90-BBFB-D343C1CD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552-018D-4D52-BC1F-05D808C2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BC9-E741-4B2D-BD86-CCD2486C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944D-79F7-4A81-A957-7D70E40E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5D3-0608-4DF9-94E4-B05B461C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9724-D4B1-48B5-91AB-E0E75B62AD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DEC8-0BE5-42F4-A6E8-C4B849EEB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arly American Histo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 Peo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nting, gathering and farming were important parts for the Native American life styl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r, fish, roots, nuts, berries, corn, beans, squash, melons and other crops were e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out the Native American’s history they have been in turmoil with each ot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648320" y="1828800"/>
            <a:ext cx="3657600" cy="3581280"/>
            <a:chOff x="4648320" y="1828800"/>
            <a:chExt cx="3657600" cy="35812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4648320" y="1828800"/>
              <a:ext cx="365760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 txBox="1"/>
            <p:nvPr/>
          </p:nvSpPr>
          <p:spPr>
            <a:xfrm>
              <a:off x="4648320" y="1828800"/>
              <a:ext cx="3657600" cy="35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99ff99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lon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y – is a settlement that is ruled by a faraway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e reasons people came to the new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gious freedom, ri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some items people traded or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in, flour, lumber, furs, dried meat &amp; salted f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up own government, wrote laws, elected own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876920" y="1828800"/>
            <a:ext cx="3427200" cy="3840120"/>
            <a:chOff x="4876920" y="1828800"/>
            <a:chExt cx="3427200" cy="384012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4876920" y="1828800"/>
              <a:ext cx="34272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 txBox="1"/>
            <p:nvPr/>
          </p:nvSpPr>
          <p:spPr>
            <a:xfrm>
              <a:off x="4876920" y="1828800"/>
              <a:ext cx="3427200" cy="384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99ff99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to complete your webquest on Early American Histo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j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15908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3:07:04Z</dcterms:created>
  <dc:creator>College of Education</dc:creator>
  <dc:description/>
  <dc:language>en-US</dc:language>
  <cp:lastModifiedBy>College of Education</cp:lastModifiedBy>
  <dcterms:modified xsi:type="dcterms:W3CDTF">2009-07-21T13:22:36Z</dcterms:modified>
  <cp:revision>4</cp:revision>
  <dc:subject/>
  <dc:title>Early American History</dc:title>
</cp:coreProperties>
</file>